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11C-A2E5-48D2-9C96-272537E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D8D-A967-40B8-8573-A5E904A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1F7-FA55-4655-9DD9-47408EF2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DDC-07BB-4D75-A0C8-143DB794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4C99-BD4E-42F8-93F1-5A242025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04F-3A9D-49C3-96C0-60455D6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09EE-A950-48A2-A28E-F433437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4E77-2BD2-4FDA-9727-7C387F3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067-2F19-434D-93E4-E4D40A78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B00-C4CA-4404-851F-4B34C97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1BC-FFDC-4957-BFBA-003F1A21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1A8-02F9-45B3-BB79-CE4A6128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551-5A73-474D-A797-BB2B3F16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0FC9-CD19-48B4-A4A2-76323D6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167B-4C44-4F20-BAA1-DB21E41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601B-9E03-4475-A715-6D2C8062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19B-E2E1-4860-BE11-C81A683A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C9E-D67B-4C03-9544-83A4ED4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9B5-640F-46DC-B3DE-F3BD747A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B97-8F87-45CD-A312-D87EE99A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CEE-891E-490A-B30F-BA43A079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D27-B6BF-4F1E-B0BD-D3AE2EF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80B-1646-4F1A-A3AC-5CEE4A55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788-899C-407A-BBDC-6334918F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4FDD-3724-4312-A454-FA58DF96B74D}" type="slidenum">
              <a: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BED-E7BE-4B1A-94B9-4480BD1204F7}" type="slidenum">
              <a: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E82-0EA1-4D9F-BBAB-33A31BBEF63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5640" y="575640"/>
            <a:ext cx="8173080" cy="27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4800" spc="-1" strike="noStrike">
                <a:solidFill>
                  <a:srgbClr val="003366"/>
                </a:solidFill>
                <a:latin typeface="標楷體"/>
                <a:ea typeface="標楷體"/>
              </a:rPr>
              <a:t>「廉政公約」具體行動方案。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untitled"/>
          <p:cNvPicPr/>
          <p:nvPr/>
        </p:nvPicPr>
        <p:blipFill>
          <a:blip r:embed="rId1"/>
          <a:stretch/>
        </p:blipFill>
        <p:spPr>
          <a:xfrm>
            <a:off x="0" y="5300640"/>
            <a:ext cx="4643280" cy="1557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572000" y="5300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報告人：莊麗檬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內容版面配置區 10" descr=""/>
          <p:cNvPicPr/>
          <p:nvPr/>
        </p:nvPicPr>
        <p:blipFill>
          <a:blip r:embed="rId1"/>
          <a:stretch/>
        </p:blipFill>
        <p:spPr>
          <a:xfrm>
            <a:off x="901800" y="1736640"/>
            <a:ext cx="8413560" cy="5322960"/>
          </a:xfrm>
          <a:prstGeom prst="rect">
            <a:avLst/>
          </a:prstGeom>
          <a:ln w="0">
            <a:noFill/>
          </a:ln>
        </p:spPr>
      </p:pic>
      <p:sp>
        <p:nvSpPr>
          <p:cNvPr id="124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A01-9BC2-4E08-B6B5-30C8F1DF8F4C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五邊形 11"/>
          <p:cNvSpPr/>
          <p:nvPr/>
        </p:nvSpPr>
        <p:spPr>
          <a:xfrm>
            <a:off x="0" y="3429000"/>
            <a:ext cx="2484360" cy="142092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420920"/>
              <a:gd name="textAreaBottom" fmla="*/ 1421280 h 14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a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標楷體"/>
              </a:rPr>
              <a:t>(</a:t>
            </a: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一</a:t>
            </a:r>
            <a:r>
              <a:rPr b="1" i="1" lang="en-US" sz="2800" spc="-1" strike="noStrike">
                <a:solidFill>
                  <a:srgbClr val="003366"/>
                </a:solidFill>
                <a:latin typeface="標楷體"/>
              </a:rPr>
              <a:t>)</a:t>
            </a: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強化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機關廉政風險評估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內容版面配置區 4" descr=""/>
          <p:cNvPicPr/>
          <p:nvPr/>
        </p:nvPicPr>
        <p:blipFill>
          <a:blip r:embed="rId1"/>
          <a:stretch/>
        </p:blipFill>
        <p:spPr>
          <a:xfrm>
            <a:off x="719280" y="2060640"/>
            <a:ext cx="8474040" cy="4668840"/>
          </a:xfrm>
          <a:prstGeom prst="rect">
            <a:avLst/>
          </a:prstGeom>
          <a:ln w="0">
            <a:noFill/>
          </a:ln>
        </p:spPr>
      </p:pic>
      <p:sp>
        <p:nvSpPr>
          <p:cNvPr id="128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A315-AC31-48FA-AFC7-13065B645850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內容版面配置區 4" descr=""/>
          <p:cNvPicPr/>
          <p:nvPr/>
        </p:nvPicPr>
        <p:blipFill>
          <a:blip r:embed="rId1"/>
          <a:stretch/>
        </p:blipFill>
        <p:spPr>
          <a:xfrm>
            <a:off x="249120" y="1542960"/>
            <a:ext cx="8894880" cy="5424480"/>
          </a:xfrm>
          <a:prstGeom prst="rect">
            <a:avLst/>
          </a:prstGeom>
          <a:ln w="0">
            <a:noFill/>
          </a:ln>
        </p:spPr>
      </p:pic>
      <p:sp>
        <p:nvSpPr>
          <p:cNvPr id="131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A7DB-7A9A-425A-BAD2-6C26EF670E0E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D81-0381-456D-BB08-52B0E13B064E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內容版面配置區 2" descr=""/>
          <p:cNvPicPr/>
          <p:nvPr/>
        </p:nvPicPr>
        <p:blipFill>
          <a:blip r:embed="rId1"/>
          <a:stretch/>
        </p:blipFill>
        <p:spPr>
          <a:xfrm>
            <a:off x="828720" y="2193840"/>
            <a:ext cx="77295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980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內容版面配置區 4" descr=""/>
          <p:cNvPicPr/>
          <p:nvPr/>
        </p:nvPicPr>
        <p:blipFill>
          <a:blip r:embed="rId1"/>
          <a:stretch/>
        </p:blipFill>
        <p:spPr>
          <a:xfrm>
            <a:off x="755640" y="2335320"/>
            <a:ext cx="7791480" cy="3852720"/>
          </a:xfrm>
          <a:prstGeom prst="rect">
            <a:avLst/>
          </a:prstGeom>
          <a:ln w="0">
            <a:noFill/>
          </a:ln>
        </p:spPr>
      </p:pic>
      <p:sp>
        <p:nvSpPr>
          <p:cNvPr id="137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5B1-6CAF-4FAC-905E-7C438F06C132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2548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內容版面配置區 6" descr=""/>
          <p:cNvPicPr/>
          <p:nvPr/>
        </p:nvPicPr>
        <p:blipFill>
          <a:blip r:embed="rId1"/>
          <a:stretch/>
        </p:blipFill>
        <p:spPr>
          <a:xfrm>
            <a:off x="828720" y="2266920"/>
            <a:ext cx="7729560" cy="4475160"/>
          </a:xfrm>
          <a:prstGeom prst="rect">
            <a:avLst/>
          </a:prstGeom>
          <a:ln w="0">
            <a:noFill/>
          </a:ln>
        </p:spPr>
      </p:pic>
      <p:sp>
        <p:nvSpPr>
          <p:cNvPr id="14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407-C1EA-40C9-80CE-A9B4E9E97CE3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處理及檢討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內容版面配置區 4" descr=""/>
          <p:cNvPicPr/>
          <p:nvPr/>
        </p:nvPicPr>
        <p:blipFill>
          <a:blip r:embed="rId1"/>
          <a:stretch/>
        </p:blipFill>
        <p:spPr>
          <a:xfrm>
            <a:off x="804960" y="2365200"/>
            <a:ext cx="8192880" cy="4364280"/>
          </a:xfrm>
          <a:prstGeom prst="rect">
            <a:avLst/>
          </a:prstGeom>
          <a:ln w="0">
            <a:noFill/>
          </a:ln>
        </p:spPr>
      </p:pic>
      <p:sp>
        <p:nvSpPr>
          <p:cNvPr id="14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0F40-38F3-49AD-9CA5-34D876D4A273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處理及檢討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內容版面配置區 5" descr=""/>
          <p:cNvPicPr/>
          <p:nvPr/>
        </p:nvPicPr>
        <p:blipFill>
          <a:blip r:embed="rId1"/>
          <a:stretch/>
        </p:blipFill>
        <p:spPr>
          <a:xfrm>
            <a:off x="85680" y="2346480"/>
            <a:ext cx="8809200" cy="4511520"/>
          </a:xfrm>
          <a:prstGeom prst="rect">
            <a:avLst/>
          </a:prstGeom>
          <a:ln w="0">
            <a:noFill/>
          </a:ln>
        </p:spPr>
      </p:pic>
      <p:sp>
        <p:nvSpPr>
          <p:cNvPr id="146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39FA-2725-43A9-9434-FC2DF13F1ED0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向右箭號 6"/>
          <p:cNvSpPr/>
          <p:nvPr/>
        </p:nvSpPr>
        <p:spPr>
          <a:xfrm>
            <a:off x="0" y="3573360"/>
            <a:ext cx="2556000" cy="1204920"/>
          </a:xfrm>
          <a:prstGeom prst="rightArrow">
            <a:avLst>
              <a:gd name="adj1" fmla="val 86806"/>
              <a:gd name="adj2" fmla="val 49998"/>
            </a:avLst>
          </a:prstGeom>
          <a:solidFill>
            <a:srgbClr val="33cc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廉政風險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處理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檢討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內容版面配置區 1" descr=""/>
          <p:cNvPicPr/>
          <p:nvPr/>
        </p:nvPicPr>
        <p:blipFill>
          <a:blip r:embed="rId1"/>
          <a:stretch/>
        </p:blipFill>
        <p:spPr>
          <a:xfrm>
            <a:off x="828720" y="2346480"/>
            <a:ext cx="7711920" cy="3755880"/>
          </a:xfrm>
          <a:prstGeom prst="rect">
            <a:avLst/>
          </a:prstGeom>
          <a:ln w="0">
            <a:noFill/>
          </a:ln>
        </p:spPr>
      </p:pic>
      <p:sp>
        <p:nvSpPr>
          <p:cNvPr id="15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3BF0-EEEC-492E-9473-F9116F458C65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投影片編號版面配置區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46B0-B6E5-4D6A-91D9-8BB83128CC1A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5c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030a0"/>
                </a:solidFill>
                <a:latin typeface="Arial"/>
                <a:ea typeface="標楷體"/>
              </a:rPr>
              <a:t>九、結語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內容版面配置區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6670800" cy="41752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7680" y="2276640"/>
            <a:ext cx="7692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一、前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二、適用機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三、適用對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四、適用範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五、廉政公約目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六、廉政風險的具體作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七、廉政風險之預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八、廉政風險處理及檢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九、結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A18-3126-4505-9428-6AE903893341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投影片編號版面配置區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5B6-B158-4047-AC0B-4A339C57E5BA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2773440"/>
            <a:ext cx="8440200" cy="188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s fo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your attention !! 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484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一、前言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2320"/>
            <a:ext cx="83059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依據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一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法務部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7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月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日法授廉字第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700054160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號函頒修 正「國家廉政建設行動方案」具體作為中「落實公務員行為規範，建立政府典範」之規定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二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行政院訂頒之「公務員倫理規範」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臺南市政府政風處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1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2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月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5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簽奉市長核准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429-5E5B-42B3-8A1C-0E2FFE2ADE29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10800" y="405720"/>
            <a:ext cx="777960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二、廉政公約適用機關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內容版面配置區 4" descr=""/>
          <p:cNvPicPr/>
          <p:nvPr/>
        </p:nvPicPr>
        <p:blipFill>
          <a:blip r:embed="rId1"/>
          <a:stretch/>
        </p:blipFill>
        <p:spPr>
          <a:xfrm>
            <a:off x="853920" y="1835280"/>
            <a:ext cx="8052120" cy="5351400"/>
          </a:xfrm>
          <a:prstGeom prst="rect">
            <a:avLst/>
          </a:prstGeom>
          <a:ln w="0">
            <a:noFill/>
          </a:ln>
        </p:spPr>
      </p:pic>
      <p:sp>
        <p:nvSpPr>
          <p:cNvPr id="106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973-5076-4634-B4AD-BD2B1979B9E4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三、廉政公約適用對象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內容版面配置區 4" descr=""/>
          <p:cNvPicPr/>
          <p:nvPr/>
        </p:nvPicPr>
        <p:blipFill>
          <a:blip r:embed="rId1"/>
          <a:stretch/>
        </p:blipFill>
        <p:spPr>
          <a:xfrm>
            <a:off x="828720" y="2322360"/>
            <a:ext cx="771192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41A-BCBB-4F3F-BCB5-3803737CAE6A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04760" y="293400"/>
            <a:ext cx="771552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                            </a:t>
            </a: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四、廉政公約適用範圍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內容版面配置區 2" descr=""/>
          <p:cNvPicPr/>
          <p:nvPr/>
        </p:nvPicPr>
        <p:blipFill>
          <a:blip r:embed="rId1"/>
          <a:stretch/>
        </p:blipFill>
        <p:spPr>
          <a:xfrm>
            <a:off x="378000" y="2189160"/>
            <a:ext cx="8821440" cy="4687920"/>
          </a:xfrm>
          <a:prstGeom prst="rect">
            <a:avLst/>
          </a:prstGeom>
          <a:ln w="0">
            <a:noFill/>
          </a:ln>
        </p:spPr>
      </p:pic>
      <p:sp>
        <p:nvSpPr>
          <p:cNvPr id="112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1ED-249D-4A75-979C-7C6DF246E0B5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五、廉政公約目標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C2A-216D-4026-9F61-ADB5259D2206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內容版面配置區 6" descr=""/>
          <p:cNvPicPr/>
          <p:nvPr/>
        </p:nvPicPr>
        <p:blipFill>
          <a:blip r:embed="rId1"/>
          <a:stretch/>
        </p:blipFill>
        <p:spPr>
          <a:xfrm>
            <a:off x="706320" y="2292480"/>
            <a:ext cx="7980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六、</a:t>
            </a:r>
            <a:r>
              <a:rPr b="0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廉政風險的具體作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內容版面配置區 4" descr=""/>
          <p:cNvPicPr/>
          <p:nvPr/>
        </p:nvPicPr>
        <p:blipFill>
          <a:blip r:embed="rId1"/>
          <a:stretch/>
        </p:blipFill>
        <p:spPr>
          <a:xfrm>
            <a:off x="841320" y="2346480"/>
            <a:ext cx="7686720" cy="3755880"/>
          </a:xfrm>
          <a:prstGeom prst="rect">
            <a:avLst/>
          </a:prstGeom>
          <a:ln w="0">
            <a:noFill/>
          </a:ln>
        </p:spPr>
      </p:pic>
      <p:sp>
        <p:nvSpPr>
          <p:cNvPr id="118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768-16FA-4D02-BC9F-892AAB41156C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1160" y="-40680"/>
            <a:ext cx="78058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          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內容版面配置區 4" descr=""/>
          <p:cNvPicPr/>
          <p:nvPr/>
        </p:nvPicPr>
        <p:blipFill>
          <a:blip r:embed="rId1"/>
          <a:stretch/>
        </p:blipFill>
        <p:spPr>
          <a:xfrm>
            <a:off x="85680" y="682560"/>
            <a:ext cx="9167760" cy="6059520"/>
          </a:xfrm>
          <a:prstGeom prst="rect">
            <a:avLst/>
          </a:prstGeom>
          <a:ln w="0">
            <a:noFill/>
          </a:ln>
        </p:spPr>
      </p:pic>
      <p:sp>
        <p:nvSpPr>
          <p:cNvPr id="121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365-08C1-4753-B8BC-988666B3EC5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07:02Z</dcterms:created>
  <dc:creator>莊麗檬</dc:creator>
  <dc:description/>
  <dc:language>en-US</dc:language>
  <cp:lastModifiedBy>user</cp:lastModifiedBy>
  <cp:lastPrinted>2017-07-26T08:07:20Z</cp:lastPrinted>
  <dcterms:modified xsi:type="dcterms:W3CDTF">2023-08-04T03:39:10Z</dcterms:modified>
  <cp:revision>881</cp:revision>
  <dc:subject/>
  <dc:title>投影片 1</dc:title>
</cp:coreProperties>
</file>